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F70F-3796-4FB5-85DF-763926B481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fer to Pece editorial on generative models. Maybe put all references at the end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B9D5-24E0-44B3-8FCE-5B64CA5E0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A5DF-F26F-42D2-AED2-5C76DA87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A53F-66C1-4BE1-9A25-D6B0C0A36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6D4E-5BA3-420E-9533-FC344B37B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DF4E-21EE-45B6-B385-E1F84D9BF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C5BC-C9A1-4BAD-804B-09A02F96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1967-D897-47AE-85F6-5523AAD3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9C31-EBA3-408B-9279-3AB63A0B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5C10-56B6-4751-A213-8D3A1CFC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0384-E8D0-42F6-AE86-31B734E0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F6E5-9902-46B3-B155-DC6366CA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D6AD-6B16-41C6-B012-2884A2AA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043B-0002-4FFC-8B1C-3F0FDA2F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DD18-344D-4272-8F88-9DE74F7A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73B2-3347-488B-B88E-48985FDA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3673-9598-42A6-A05E-26741346D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FACE-CB57-4B8C-BBE6-020F7822E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3C9D-B334-419D-87A4-90C1B1C3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50F3-E988-4BBB-8F8F-EAB25F3C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E48D-C0D0-4B27-A1DE-B0C24A28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C56D-856B-4055-B7FF-2D06372A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AAFD-E948-4104-902B-27468956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3694-A61F-424B-8D10-61ED2D47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CB8F-AE0E-4FB3-948A-42559B32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9B20-45D4-4268-B6F3-D6742B714B9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993D-CCBB-49FB-BE06-1F72B1BD5C9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hs20@sussex.ac.uk" TargetMode="External"/><Relationship Id="rId2" Type="http://schemas.openxmlformats.org/officeDocument/2006/relationships/hyperlink" Target="mailto:hilaryb@sussex.ac.uk" TargetMode="External"/><Relationship Id="rId3" Type="http://schemas.openxmlformats.org/officeDocument/2006/relationships/hyperlink" Target="http://www.ecvision.org/" TargetMode="Externa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gnitive Computer Vi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4920" y="2743200"/>
            <a:ext cx="7086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Kingsley S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khs20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Hilary Buxt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ilaryb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epared under ECVision Specific Action 8-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www.ecvision.or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01360" y="834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-estimation procedure#</a:t>
            </a:r>
            <a:br>
              <a:rPr sz="36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just the same as before …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2160" y="235908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ummary of procedur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oose </a:t>
            </a:r>
            <a:r>
              <a:rPr b="0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=(</a:t>
            </a:r>
            <a:r>
              <a:rPr b="1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t random (subject to probability constraints, of course …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lculat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p(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|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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re-estimation formulae to calculate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’=(</a:t>
            </a:r>
            <a:r>
              <a:rPr b="1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A’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B’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lculat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p(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|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’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|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p(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|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) - p(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|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’)| &lt;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EN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St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SE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D L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7360" y="750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lculating </a:t>
            </a:r>
            <a:r>
              <a:rPr b="1" i="1" lang="en-US" sz="3600" spc="-1" strike="noStrike">
                <a:solidFill>
                  <a:srgbClr val="006666"/>
                </a:solidFill>
                <a:latin typeface="Symbol"/>
                <a:ea typeface="Symbol"/>
              </a:rPr>
              <a:t></a:t>
            </a: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(i,j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9280" y="4270320"/>
            <a:ext cx="861048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he difference for continuous valued data is how we calculate the term 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i="1" lang="en-GB" sz="2400" spc="-1" strike="noStrike" baseline="-25000">
                <a:solidFill>
                  <a:srgbClr val="003366"/>
                </a:solidFill>
                <a:latin typeface="Arial"/>
              </a:rPr>
              <a:t>j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(o</a:t>
            </a:r>
            <a:r>
              <a:rPr b="0" i="1" lang="en-GB" sz="2400" spc="-1" strike="noStrike" baseline="-25000">
                <a:solidFill>
                  <a:srgbClr val="003366"/>
                </a:solidFill>
                <a:latin typeface="Arial"/>
              </a:rPr>
              <a:t>t+1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073240" y="2411280"/>
                <a:ext cx="53722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O</m:t>
                    </m:r>
                    <m:r>
                      <m:t xml:space="preserve">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139920" y="3146400"/>
                <a:ext cx="383400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|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297080" y="5257800"/>
                <a:ext cx="7389720" cy="13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|</m:t>
                        </m:r>
                        <m:r>
                          <m:t xml:space="preserve">Σ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2960" y="8060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utting it all together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1680" y="5307120"/>
            <a:ext cx="86104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s we saw in the seminar, we can ignore P(O|</a:t>
            </a:r>
            <a:r>
              <a:rPr b="0" lang="en-GB" sz="20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) as it is a constant and use combinations of scaling and normalisation when calculating </a:t>
            </a:r>
            <a:r>
              <a:rPr b="0" lang="en-GB" sz="20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, A and Gaussian parameter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97080" y="2558880"/>
                <a:ext cx="4946760" cy="11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|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657520" y="3660840"/>
                <a:ext cx="3956040" cy="16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44200" y="791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-estimation formulae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371600" y="2819520"/>
                <a:ext cx="3352680" cy="27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p>
                                      <m:r>
                                        <m:t xml:space="preserve">1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p>
                                      <m:r>
                                        <m:t xml:space="preserve">k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T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4876920" y="2743200"/>
            <a:ext cx="4038480" cy="36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he mean for Gaussian index 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is formed by weighting the observation data according to the count parameters </a:t>
            </a:r>
            <a:r>
              <a:rPr b="0" lang="en-GB" sz="2400" spc="-1" strike="noStrike">
                <a:solidFill>
                  <a:srgbClr val="003366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Normalising constants for </a:t>
            </a:r>
            <a:r>
              <a:rPr b="0" lang="en-GB" sz="2400" spc="-1" strike="noStrike">
                <a:solidFill>
                  <a:srgbClr val="003366"/>
                </a:solidFill>
                <a:latin typeface="Symbol"/>
                <a:ea typeface="Symbol"/>
              </a:rPr>
              <a:t>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terms cancel ou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Easily extends to multiple sequenc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44200" y="791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-estimation formulae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467000" y="2963880"/>
                <a:ext cx="441936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t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e>
                                    <m:sup>
                                      <m:r>
                                        <m:t xml:space="preserve">1</m:t>
                                      </m:r>
                                    </m:sup>
                                  </m:sSup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p>
                                      <m:r>
                                        <m:t xml:space="preserve">1</m:t>
                                      </m:r>
                                    </m:sup>
                                  </m:sSup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t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T</m:t>
                                      </m:r>
                                    </m:e>
                                    <m:sup>
                                      <m:r>
                                        <m:t xml:space="preserve">1</m:t>
                                      </m:r>
                                    </m:sup>
                                  </m:sSup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p>
                                      <m:r>
                                        <m:t xml:space="preserve">1</m:t>
                                      </m:r>
                                    </m:sup>
                                  </m:sSup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t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e>
                                    <m:sup>
                                      <m:r>
                                        <m:t xml:space="preserve">k</m:t>
                                      </m:r>
                                    </m:sup>
                                  </m:sSup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p>
                                      <m:r>
                                        <m:t xml:space="preserve">k</m:t>
                                      </m:r>
                                    </m:sup>
                                  </m:sSup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t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T</m:t>
                                      </m:r>
                                    </m:e>
                                    <m:sup>
                                      <m:r>
                                        <m:t xml:space="preserve">k</m:t>
                                      </m:r>
                                    </m:sup>
                                  </m:sSup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p>
                                      <m:r>
                                        <m:t xml:space="preserve">k</m:t>
                                      </m:r>
                                    </m:sup>
                                  </m:sSup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863640" y="4809960"/>
                <a:ext cx="5661000" cy="13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r>
                      <m:t xml:space="preserve">Σ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⊗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⋮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mr>
                                </m:m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m>
                                      <m:mr>
                                        <m:e>
                                          <m:sSub>
                                            <m:e>
                                              <m:r>
                                                <m:t xml:space="preserve">γ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t</m:t>
                                              </m:r>
                                              <m:r>
                                                <m:t xml:space="preserve">=</m:t>
                                              </m:r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(</m:t>
                                          </m:r>
                                          <m:r>
                                            <m:t xml:space="preserve">m</m:t>
                                          </m:r>
                                          <m:r>
                                            <m:t xml:space="preserve">)</m:t>
                                          </m:r>
                                        </m:e>
                                        <m:e>
                                          <m:r>
                                            <m:t xml:space="preserve">⋯</m:t>
                                          </m:r>
                                        </m:e>
                                        <m:e>
                                          <m:sSub>
                                            <m:e>
                                              <m:r>
                                                <m:t xml:space="preserve">γ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t</m:t>
                                              </m:r>
                                              <m:r>
                                                <m:t xml:space="preserve">=</m:t>
                                              </m:r>
                                              <m:r>
                                                <m:t xml:space="preserve">T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(</m:t>
                                          </m:r>
                                          <m:r>
                                            <m:t xml:space="preserve">m</m:t>
                                          </m:r>
                                          <m:r>
                                            <m:t xml:space="preserve">)</m:t>
                                          </m:r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⋮</m:t>
                                          </m:r>
                                        </m:e>
                                        <m:e>
                                          <m:r>
                                            <m:t xml:space="preserve">⋱</m:t>
                                          </m:r>
                                        </m:e>
                                        <m:e>
                                          <m:r>
                                            <m:t xml:space="preserve">⋮</m:t>
                                          </m:r>
                                        </m:e>
                                      </m:mr>
                                      <m:mr>
                                        <m:e>
                                          <m:sSub>
                                            <m:e>
                                              <m:r>
                                                <m:t xml:space="preserve">γ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t</m:t>
                                              </m:r>
                                              <m:r>
                                                <m:t xml:space="preserve">=</m:t>
                                              </m:r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(</m:t>
                                          </m:r>
                                          <m:r>
                                            <m:t xml:space="preserve">m</m:t>
                                          </m:r>
                                          <m:r>
                                            <m:t xml:space="preserve">)</m:t>
                                          </m:r>
                                        </m:e>
                                        <m:e>
                                          <m:r>
                                            <m:t xml:space="preserve">⋯</m:t>
                                          </m:r>
                                        </m:e>
                                        <m:e>
                                          <m:sSub>
                                            <m:e>
                                              <m:r>
                                                <m:t xml:space="preserve">γ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t</m:t>
                                              </m:r>
                                              <m:r>
                                                <m:t xml:space="preserve">=</m:t>
                                              </m:r>
                                              <m:r>
                                                <m:t xml:space="preserve">T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(</m:t>
                                          </m:r>
                                          <m:r>
                                            <m:t xml:space="preserve">m</m:t>
                                          </m:r>
                                          <m:r>
                                            <m:t xml:space="preserve">)</m:t>
                                          </m:r>
                                        </m:e>
                                      </m:mr>
                                    </m:m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6246720" y="2805120"/>
            <a:ext cx="27432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Covariance calculation is comparable with        (O  - </a:t>
            </a:r>
            <a:r>
              <a:rPr b="0" lang="en-GB" sz="16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GB" sz="1600" spc="-1" strike="noStrike" baseline="30000">
                <a:solidFill>
                  <a:srgbClr val="003366"/>
                </a:solidFill>
                <a:latin typeface="Arial"/>
              </a:rPr>
              <a:t>2 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en-GB" sz="1600" spc="-1" strike="noStrike">
                <a:solidFill>
                  <a:srgbClr val="003366"/>
                </a:solidFill>
                <a:latin typeface="Symbol"/>
                <a:ea typeface="Symbol"/>
              </a:rPr>
              <a:t>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If </a:t>
            </a:r>
            <a:r>
              <a:rPr b="0" lang="en-GB" sz="1600" spc="-1" strike="noStrike">
                <a:solidFill>
                  <a:srgbClr val="003366"/>
                </a:solidFill>
                <a:latin typeface="Symbol"/>
                <a:ea typeface="Symbol"/>
              </a:rPr>
              <a:t>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 was scaled correctly, normalising constants cancel ou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Symbol"/>
                <a:ea typeface="Symbol"/>
              </a:rPr>
              <a:t>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is element-wise produc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matrix</a:t>
            </a:r>
            <a:r>
              <a:rPr b="0" lang="en-GB" sz="1600" spc="-1" strike="noStrike" baseline="30000">
                <a:solidFill>
                  <a:srgbClr val="003366"/>
                </a:solidFill>
                <a:latin typeface="Arial"/>
              </a:rPr>
              <a:t>T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 is matrix transpos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N is the number of hidden sta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T is tim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791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ochastic sampl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63640" y="247176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use our continuous valued model to generate data (just like for the discrete cas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t’s assume that some observation data is missing (e.g. in a visual tracker where our target has become occlude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assume we are applying the correct motion model to our target and that we have some historical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01360" y="834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ochastic sampl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1800" y="2359080"/>
            <a:ext cx="7846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Summary of procedur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66"/>
                </a:solidFill>
                <a:latin typeface="Arial"/>
              </a:rPr>
              <a:t>Given model (</a:t>
            </a:r>
            <a:r>
              <a:rPr b="0" lang="en-GB" sz="22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GB" sz="2200" spc="-1" strike="noStrike">
                <a:solidFill>
                  <a:srgbClr val="003366"/>
                </a:solidFill>
                <a:latin typeface="Arial"/>
              </a:rPr>
              <a:t>,A,B) with </a:t>
            </a:r>
            <a:r>
              <a:rPr b="0" i="1" lang="en-GB" sz="22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en-GB" sz="2200" spc="-1" strike="noStrike">
                <a:solidFill>
                  <a:srgbClr val="003366"/>
                </a:solidFill>
                <a:latin typeface="Arial"/>
              </a:rPr>
              <a:t> hidden states, observation data </a:t>
            </a:r>
            <a:r>
              <a:rPr b="0" i="1" lang="en-GB" sz="22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GB" sz="2200" spc="-1" strike="noStrike">
                <a:solidFill>
                  <a:srgbClr val="003366"/>
                </a:solidFill>
                <a:latin typeface="Arial"/>
              </a:rPr>
              <a:t> we can calculate a forwards evaluation trellis </a:t>
            </a:r>
            <a:r>
              <a:rPr b="0" i="1" lang="en-GB" sz="22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lang="en-GB" sz="2200" spc="-1" strike="noStrike">
                <a:solidFill>
                  <a:srgbClr val="003366"/>
                </a:solidFill>
                <a:latin typeface="Arial"/>
              </a:rPr>
              <a:t> up until observation data is no longer available (say at time </a:t>
            </a:r>
            <a:r>
              <a:rPr b="0" i="1" lang="en-GB" sz="2200" spc="-1" strike="noStrike">
                <a:solidFill>
                  <a:srgbClr val="003366"/>
                </a:solidFill>
                <a:latin typeface="Arial"/>
              </a:rPr>
              <a:t>t=u</a:t>
            </a:r>
            <a:r>
              <a:rPr b="0" lang="en-GB" sz="22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66"/>
                </a:solidFill>
                <a:latin typeface="Arial"/>
              </a:rPr>
              <a:t>For the distribution </a:t>
            </a:r>
            <a:r>
              <a:rPr b="0" i="1" lang="en-GB" sz="22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i="1" lang="en-GB" sz="2200" spc="-1" strike="noStrike">
                <a:solidFill>
                  <a:srgbClr val="003366"/>
                </a:solidFill>
                <a:latin typeface="Arial"/>
              </a:rPr>
              <a:t>(N,t=u),</a:t>
            </a:r>
            <a:r>
              <a:rPr b="0" lang="en-GB" sz="2200" spc="-1" strike="noStrike">
                <a:solidFill>
                  <a:srgbClr val="003366"/>
                </a:solidFill>
                <a:latin typeface="Arial"/>
              </a:rPr>
              <a:t> calculate the values based on the state transition matrix </a:t>
            </a:r>
            <a:r>
              <a:rPr b="0" i="1" lang="en-GB" sz="22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GB" sz="2200" spc="-1" strike="noStrike">
                <a:solidFill>
                  <a:srgbClr val="003366"/>
                </a:solidFill>
                <a:latin typeface="Arial"/>
              </a:rPr>
              <a:t> alone from </a:t>
            </a:r>
            <a:r>
              <a:rPr b="0" i="1" lang="en-GB" sz="22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i="1" lang="en-GB" sz="2200" spc="-1" strike="noStrike">
                <a:solidFill>
                  <a:srgbClr val="003366"/>
                </a:solidFill>
                <a:latin typeface="Arial"/>
              </a:rPr>
              <a:t>(N,t=u-1),</a:t>
            </a:r>
            <a:r>
              <a:rPr b="0" lang="en-GB" sz="2200" spc="-1" strike="noStrike">
                <a:solidFill>
                  <a:srgbClr val="003366"/>
                </a:solidFill>
                <a:latin typeface="Arial"/>
              </a:rPr>
              <a:t> (there is no value </a:t>
            </a:r>
            <a:r>
              <a:rPr b="0" i="1" lang="en-GB" sz="22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GB" sz="2200" spc="-1" strike="noStrike" baseline="-25000">
                <a:solidFill>
                  <a:srgbClr val="003366"/>
                </a:solidFill>
                <a:latin typeface="Arial"/>
              </a:rPr>
              <a:t>u</a:t>
            </a:r>
            <a:r>
              <a:rPr b="0" lang="en-GB" sz="22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66"/>
                </a:solidFill>
                <a:latin typeface="Arial"/>
              </a:rPr>
              <a:t>Stochastically sample </a:t>
            </a:r>
            <a:r>
              <a:rPr b="0" i="1" lang="en-GB" sz="22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i="1" lang="en-GB" sz="2200" spc="-1" strike="noStrike">
                <a:solidFill>
                  <a:srgbClr val="003366"/>
                </a:solidFill>
                <a:latin typeface="Arial"/>
              </a:rPr>
              <a:t>(N,t=u)</a:t>
            </a:r>
            <a:r>
              <a:rPr b="0" lang="en-GB" sz="2200" spc="-1" strike="noStrike">
                <a:solidFill>
                  <a:srgbClr val="003366"/>
                </a:solidFill>
                <a:latin typeface="Arial"/>
              </a:rPr>
              <a:t> and select one state </a:t>
            </a:r>
            <a:r>
              <a:rPr b="0" i="1" lang="en-GB" sz="22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lang="en-GB" sz="2200" spc="-1" strike="noStrike">
                <a:solidFill>
                  <a:srgbClr val="003366"/>
                </a:solidFill>
                <a:latin typeface="Arial"/>
              </a:rPr>
              <a:t>. Set </a:t>
            </a:r>
            <a:r>
              <a:rPr b="0" i="1" lang="en-GB" sz="22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i="1" lang="en-GB" sz="2200" spc="-1" strike="noStrike">
                <a:solidFill>
                  <a:srgbClr val="003366"/>
                </a:solidFill>
                <a:latin typeface="Arial"/>
              </a:rPr>
              <a:t>(n=q,t=u)=1.0</a:t>
            </a:r>
            <a:r>
              <a:rPr b="0" lang="en-GB" sz="2200" spc="-1" strike="noStrike">
                <a:solidFill>
                  <a:srgbClr val="003366"/>
                </a:solidFill>
                <a:latin typeface="Arial"/>
              </a:rPr>
              <a:t> and all other values </a:t>
            </a:r>
            <a:r>
              <a:rPr b="0" i="1" lang="en-GB" sz="22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i="1" lang="en-GB" sz="22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GB" sz="2200" spc="-1" strike="noStrike">
                <a:solidFill>
                  <a:srgbClr val="003366"/>
                </a:solidFill>
                <a:latin typeface="Symbol"/>
                <a:ea typeface="Symbol"/>
              </a:rPr>
              <a:t></a:t>
            </a:r>
            <a:r>
              <a:rPr b="0" i="1" lang="en-GB" sz="22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i="1" lang="en-GB" sz="2200" spc="-1" strike="noStrike">
                <a:solidFill>
                  <a:srgbClr val="003366"/>
                </a:solidFill>
                <a:latin typeface="Symbol"/>
                <a:ea typeface="Symbol"/>
              </a:rPr>
              <a:t></a:t>
            </a:r>
            <a:r>
              <a:rPr b="0" i="1" lang="en-GB" sz="2200" spc="-1" strike="noStrike">
                <a:solidFill>
                  <a:srgbClr val="003366"/>
                </a:solidFill>
                <a:latin typeface="Arial"/>
              </a:rPr>
              <a:t>N:n</a:t>
            </a:r>
            <a:r>
              <a:rPr b="0" i="1" lang="en-GB" sz="2200" spc="-1" strike="noStrike">
                <a:solidFill>
                  <a:srgbClr val="003366"/>
                </a:solidFill>
                <a:latin typeface="Symbol"/>
                <a:ea typeface="Symbol"/>
              </a:rPr>
              <a:t></a:t>
            </a:r>
            <a:r>
              <a:rPr b="0" i="1" lang="en-GB" sz="2200" spc="-1" strike="noStrike">
                <a:solidFill>
                  <a:srgbClr val="003366"/>
                </a:solidFill>
                <a:latin typeface="Arial"/>
              </a:rPr>
              <a:t>q,t=u)=0.0</a:t>
            </a:r>
            <a:r>
              <a:rPr b="0" lang="en-GB" sz="22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i="1" lang="en-GB" sz="22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lang="en-GB" sz="2200" spc="-1" strike="noStrike">
                <a:solidFill>
                  <a:srgbClr val="003366"/>
                </a:solidFill>
                <a:latin typeface="Arial"/>
              </a:rPr>
              <a:t> is the hidden state we have selected to be in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66"/>
                </a:solidFill>
                <a:latin typeface="Arial"/>
              </a:rPr>
              <a:t>Generate </a:t>
            </a:r>
            <a:r>
              <a:rPr b="0" i="1" lang="en-GB" sz="22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GB" sz="2200" spc="-1" strike="noStrike" baseline="-25000">
                <a:solidFill>
                  <a:srgbClr val="003366"/>
                </a:solidFill>
                <a:latin typeface="Arial"/>
              </a:rPr>
              <a:t>u</a:t>
            </a:r>
            <a:r>
              <a:rPr b="0" lang="en-GB" sz="2200" spc="-1" strike="noStrike">
                <a:solidFill>
                  <a:srgbClr val="003366"/>
                </a:solidFill>
                <a:latin typeface="Arial"/>
              </a:rPr>
              <a:t> by sampling </a:t>
            </a:r>
            <a:r>
              <a:rPr b="0" i="1" lang="en-GB" sz="22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i="1" lang="en-GB" sz="2200" spc="-1" strike="noStrike" baseline="-25000">
                <a:solidFill>
                  <a:srgbClr val="003366"/>
                </a:solidFill>
                <a:latin typeface="Arial"/>
              </a:rPr>
              <a:t>q</a:t>
            </a:r>
            <a:r>
              <a:rPr b="0" i="1" lang="en-GB" sz="22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i="1" lang="en-GB" sz="22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ochastic sampling in a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1" name="vlmm_fig" descr=""/>
          <p:cNvPicPr/>
          <p:nvPr/>
        </p:nvPicPr>
        <p:blipFill>
          <a:blip r:embed="rId1"/>
          <a:stretch/>
        </p:blipFill>
        <p:spPr>
          <a:xfrm>
            <a:off x="990720" y="2637000"/>
            <a:ext cx="4647960" cy="36082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942160" y="2514600"/>
            <a:ext cx="2623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99"/>
                </a:solidFill>
                <a:latin typeface="Times New Roman"/>
              </a:rPr>
              <a:t>Green: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constant velocity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Blue: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constant acceleration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ed: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First order HMM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cc"/>
                </a:solidFill>
                <a:latin typeface="Times New Roman"/>
              </a:rPr>
              <a:t>Purple: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Variable Length MM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92760" y="3552840"/>
            <a:ext cx="32353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Black shows observed data from our earlier hand trajectory example The rest of the circle is occlude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Extrapolation over many timesteps gives a wide variation in prediction. This is because the memory is only first orde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The Variable Length Markov Model (VLMM) tracker uses a longer temporal history to build a stiffer mode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uch of the HMM learning for the continuous case is similar to the discrete case but we use Gaussian models parameterised by </a:t>
            </a:r>
            <a:r>
              <a:rPr b="0" i="1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i="1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major additional computation involves the re-estimation process since it involves the Gaussian mod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e can full in the observation sequence for a model (</a:t>
            </a:r>
            <a:r>
              <a:rPr b="0" i="1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,A,B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) by using stochastic samp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58600" y="8028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xt time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90640" y="2612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ing in Bayesian Belief Networ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cture 1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7432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ing the parameters for a continuous valued Hidden Markov Mod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iven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find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o maximise likelihood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|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Baum Welch (model parameter) lear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ochastic sampl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o why are HMMs relevant to Cognitive CV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4040" y="2717640"/>
            <a:ext cx="802944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s a well-founded methodology for reasoning about temporal ev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e method that you can use as a basis for our model of expec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this lecture we shall see how we can learn the HMM model parameters for a task from training observation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71480" y="8902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minder: What is a Hidden Markov Mode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07840" y="25560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ormally a Hidden Markov Model </a:t>
            </a:r>
            <a:r>
              <a:rPr b="0" i="1" lang="en-GB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 = (</a:t>
            </a:r>
            <a:r>
              <a:rPr b="1" i="1" lang="en-GB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i="1" lang="en-GB" sz="24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i="1" lang="en-GB" sz="24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74960" indent="-174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vector is a 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1*N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vector that specifies the probability of being in a particular hidden state at time 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t=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74960" indent="-174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is the State Transition Matrix (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N*N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matrix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74960" indent="-174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are the Confusion parameters for N Gaussian components (N mean vectors and 1 or N co-variance matric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74960" indent="-174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is the observation sequence (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1*|</a:t>
            </a:r>
            <a:r>
              <a:rPr b="1" i="1" lang="en-GB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| vecto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arning for a visual task</a:t>
            </a:r>
            <a:br>
              <a:rPr sz="36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D hand trajectory tracking (movie © ICS, FORTH, Crete GREECE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3905280" cy="2928960"/>
          </a:xfrm>
          <a:prstGeom prst="rect">
            <a:avLst/>
          </a:prstGeom>
          <a:ln w="0">
            <a:noFill/>
          </a:ln>
        </p:spPr>
      </p:pic>
      <p:pic>
        <p:nvPicPr>
          <p:cNvPr id="110" name="2DTrajectoryPic" descr=""/>
          <p:cNvPicPr/>
          <p:nvPr/>
        </p:nvPicPr>
        <p:blipFill>
          <a:blip r:embed="rId2"/>
          <a:stretch/>
        </p:blipFill>
        <p:spPr>
          <a:xfrm>
            <a:off x="4879800" y="2666880"/>
            <a:ext cx="3992760" cy="3078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43080" y="5727600"/>
            <a:ext cx="676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e use a hand tracker to create positional data fo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unctional gestures (hand going in circles in this cas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791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um Welch lear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63640" y="247176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iven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find </a:t>
            </a:r>
            <a:r>
              <a:rPr b="0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o maximise likelihood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p(</a:t>
            </a:r>
            <a:r>
              <a:rPr b="0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|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Baum Welch (model parameter)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type of Expectation Maximisation (EM)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rt with random parameters for </a:t>
            </a:r>
            <a:r>
              <a:rPr b="1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= (</a:t>
            </a:r>
            <a:r>
              <a:rPr b="1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, A, B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ply iteration of BW learning to define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itial model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either defines a critical point of the likelihood function, in which case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’ =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del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more likely in the sense that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P(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|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’) &gt; P(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|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.e. we have found another model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rom which the observation sequence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more likely to be produc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um Welch lear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4038840" cy="4038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148360" y="2711520"/>
            <a:ext cx="4038480" cy="36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or continuous valued data we are also learning the parameters of the Gaussian componen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tarting from random valu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Here we assume that there is only one covariance matri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74360" y="818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tting the notation right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39800" y="234648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irst, we need to set out some more precise mathematical notation and terms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p(</a:t>
            </a:r>
            <a:r>
              <a:rPr b="1" i="1" lang="en-GB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| </a:t>
            </a:r>
            <a:r>
              <a:rPr b="0" i="1" lang="en-GB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):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fit of </a:t>
            </a:r>
            <a:r>
              <a:rPr b="1" i="1" lang="en-GB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given the mod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p(</a:t>
            </a:r>
            <a:r>
              <a:rPr b="0" i="1" lang="en-GB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|</a:t>
            </a:r>
            <a:r>
              <a:rPr b="1" i="1" lang="en-GB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):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Likelihood fun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= [ 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GB" sz="24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, o</a:t>
            </a:r>
            <a:r>
              <a:rPr b="0" i="1" lang="en-GB" sz="24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, … , o</a:t>
            </a:r>
            <a:r>
              <a:rPr b="0" i="1" lang="en-GB" sz="2400" spc="-1" strike="noStrike" baseline="-25000">
                <a:solidFill>
                  <a:srgbClr val="003366"/>
                </a:solidFill>
                <a:latin typeface="Arial"/>
              </a:rPr>
              <a:t>T</a:t>
            </a:r>
            <a:r>
              <a:rPr b="0" lang="en-GB" sz="2400" spc="-1" strike="noStrike" baseline="-25000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hidden states (we choose this value ourselv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symbols in the observation sequ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= the forwards evaluation trellis (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N*T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matrix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66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= the backwards evaluation trellis (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N*T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matrix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k = # of features in the Gaussian compon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tting the notation right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838080" y="2590920"/>
            <a:ext cx="3909960" cy="520560"/>
            <a:chOff x="838080" y="2590920"/>
            <a:chExt cx="3909960" cy="520560"/>
          </a:xfrm>
        </p:grpSpPr>
        <p:sp>
          <p:nvSpPr>
            <p:cNvPr id="121" name=""/>
            <p:cNvSpPr/>
            <p:nvPr/>
          </p:nvSpPr>
          <p:spPr>
            <a:xfrm>
              <a:off x="838080" y="2590920"/>
              <a:ext cx="375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66"/>
                  </a:solidFill>
                  <a:latin typeface="Symbol"/>
                  <a:ea typeface="Symbol"/>
                </a:rPr>
                <a:t></a:t>
              </a:r>
              <a:r>
                <a:rPr b="1" lang="en-US" sz="2800" spc="-1" strike="noStrike">
                  <a:solidFill>
                    <a:srgbClr val="003366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003366"/>
                  </a:solidFill>
                  <a:latin typeface="Times New Roman"/>
                </a:rPr>
                <a:t>=     </a:t>
              </a:r>
              <a:endParaRPr b="0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2081160" y="2621160"/>
                  <a:ext cx="266688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π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π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π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3" name=""/>
          <p:cNvGrpSpPr/>
          <p:nvPr/>
        </p:nvGrpSpPr>
        <p:grpSpPr>
          <a:xfrm>
            <a:off x="5181480" y="2438280"/>
            <a:ext cx="3276720" cy="1371240"/>
            <a:chOff x="5181480" y="2438280"/>
            <a:chExt cx="3276720" cy="1371240"/>
          </a:xfrm>
        </p:grpSpPr>
        <p:sp>
          <p:nvSpPr>
            <p:cNvPr id="124" name=""/>
            <p:cNvSpPr/>
            <p:nvPr/>
          </p:nvSpPr>
          <p:spPr>
            <a:xfrm>
              <a:off x="5181480" y="2438280"/>
              <a:ext cx="32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66"/>
                  </a:solidFill>
                  <a:latin typeface="Times New Roman"/>
                </a:rPr>
                <a:t>A</a:t>
              </a:r>
              <a:r>
                <a:rPr b="1" lang="en-US" sz="3200" spc="-1" strike="noStrike">
                  <a:solidFill>
                    <a:srgbClr val="003366"/>
                  </a:solidFill>
                  <a:latin typeface="Times New Roman"/>
                </a:rPr>
                <a:t> = 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5813640" y="2494440"/>
                  <a:ext cx="2009520" cy="131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,1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,1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,1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  <m:e/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/>
                              <m:e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181480" y="4267080"/>
                <a:ext cx="362448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sup>
                                          <m:r>
                                            <m:t xml:space="preserve">1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sup>
                                          <m:r>
                                            <m:t xml:space="preserve">k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2</m:t>
                                          </m:r>
                                        </m:e>
                                        <m:sup>
                                          <m:r>
                                            <m:t xml:space="preserve">1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2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2</m:t>
                                          </m:r>
                                        </m:e>
                                        <m:sup>
                                          <m:r>
                                            <m:t xml:space="preserve">k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p>
                                          <m:r>
                                            <m:t xml:space="preserve">1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p>
                                          <m:r>
                                            <m:t xml:space="preserve">k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762120" y="4343400"/>
                <a:ext cx="441936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1,1</m:t>
                                  </m:r>
                                </m:sup>
                              </m:sSup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1,2</m:t>
                                  </m:r>
                                </m:sup>
                              </m:sSup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k</m:t>
                                  </m:r>
                                </m:sup>
                              </m:sSup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,1</m:t>
                                  </m:r>
                                </m:sup>
                              </m:sSup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,2</m:t>
                                  </m:r>
                                </m:sup>
                              </m:sSup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k</m:t>
                                  </m:r>
                                </m:sup>
                              </m:sSup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k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k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k</m:t>
                                  </m:r>
                                </m:sup>
                              </m:sSup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10:31:27Z</dcterms:created>
  <dc:creator>Sage</dc:creator>
  <dc:description/>
  <dc:language>en-US</dc:language>
  <cp:lastModifiedBy>Sage</cp:lastModifiedBy>
  <dcterms:modified xsi:type="dcterms:W3CDTF">2005-03-24T15:28:19Z</dcterms:modified>
  <cp:revision>60</cp:revision>
  <dc:subject/>
  <dc:title>Markov Models</dc:title>
</cp:coreProperties>
</file>